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42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5.png" ContentType="image/png"/>
  <Override PartName="/ppt/media/image46.png" ContentType="image/png"/>
  <Override PartName="/ppt/media/image31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54.png" ContentType="image/png"/>
  <Override PartName="/ppt/media/image52.jpeg" ContentType="image/jpeg"/>
  <Override PartName="/ppt/media/image38.png" ContentType="image/png"/>
  <Override PartName="/ppt/media/image8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2.wmf" ContentType="image/x-wmf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86D-EAE4-44E9-9F88-BCB9F130B0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1F91-5D7B-4555-BA23-DDDA9EC368A5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6026-C0A9-479D-B452-29BE0D86B660}" type="slidenum">
              <a:rPr b="0" lang="it-IT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BD32-D0AA-4223-A796-D726A28594BE}" type="slidenum">
              <a:rPr b="0" lang="it-IT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C47-5C56-4CD8-B097-245AEFED6577}" type="slidenum">
              <a:rPr b="0" lang="it-IT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368-04A0-4395-85B6-E9062B8735E4}" type="slidenum">
              <a:rPr b="0" lang="it-IT" sz="1200" spc="-1" strike="noStrike">
                <a:solidFill>
                  <a:srgbClr val="ffff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2E30C-D370-4CD6-AA5E-AA3528E91C8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496DB-ECBC-48F6-8940-1767A050BAB8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8C070-141C-46A0-A789-638A77BA8B60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EF4DB-73D3-40EF-B617-BD2BB5A41A88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8B46A-0862-43C1-B955-AE942BEE68C2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9D861-3C2B-45C4-9B2D-F8B616D1661F}" type="slidenum">
              <a:rPr b="0" lang="it-IT" sz="1200" spc="-1" strike="noStrike">
                <a:solidFill>
                  <a:srgbClr val="ffff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778-29AD-4718-B21E-850B2EC7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BBA-112A-47D9-8058-F1ACB769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D2D-A7A8-43AD-AA86-6AB09A01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B3B-BD06-4429-887A-0F49E6C0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641-292C-4627-95E4-AD50F84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782-452A-4CF6-BC85-39EA3C7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46A-CFB0-4FB6-8180-2067CD05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59D-EFE4-4700-9BD6-0EA9CDC1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F91-B541-45CC-A09F-56E8E9D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44D-E960-40FE-BCAD-F5AA36D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FCD-8359-4523-962A-8E7F3A20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8AA-8623-4428-9A0F-B1596F3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ardiologia Cune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39C-AAE0-4442-ABBE-AB486482AC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1114560" y="1357200"/>
            <a:ext cx="8277120" cy="29354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The lower is better: trattamento con statine ad alta intensita’ ed aggiunta di ezetemib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614600" y="4495680"/>
            <a:ext cx="727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auro Feol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Cardiologia Ospedale di Mondovi’ (CN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" name="Object 14"/>
          <p:cNvGraphicFramePr/>
          <p:nvPr/>
        </p:nvGraphicFramePr>
        <p:xfrm>
          <a:off x="41400" y="115920"/>
          <a:ext cx="243828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15920"/>
                    <a:ext cx="2438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223200" y="44280"/>
            <a:ext cx="960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mbedded Image"/>
          <p:cNvPicPr/>
          <p:nvPr/>
        </p:nvPicPr>
        <p:blipFill>
          <a:blip r:embed="rId1"/>
          <a:stretch/>
        </p:blipFill>
        <p:spPr>
          <a:xfrm>
            <a:off x="5143680" y="1944720"/>
            <a:ext cx="5033880" cy="486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858960" y="133200"/>
            <a:ext cx="831672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Rettangolo 3"/>
          <p:cNvSpPr/>
          <p:nvPr/>
        </p:nvSpPr>
        <p:spPr>
          <a:xfrm>
            <a:off x="111240" y="3573360"/>
            <a:ext cx="48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commendations for lipid management in patients with moderate to severe chronic kidney disea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00480" y="4428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1204920" y="1700280"/>
            <a:ext cx="7754760" cy="232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2600280" y="4076640"/>
            <a:ext cx="5086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240" y="1700280"/>
            <a:ext cx="5689440" cy="26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400480" y="4428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754520" y="4005360"/>
            <a:ext cx="5573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Diapositiva32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10287000" cy="3353040"/>
          </a:xfrm>
          <a:prstGeom prst="rect">
            <a:avLst/>
          </a:prstGeom>
          <a:ln w="0">
            <a:noFill/>
          </a:ln>
        </p:spPr>
      </p:pic>
      <p:sp>
        <p:nvSpPr>
          <p:cNvPr id="105" name="Line 3"/>
          <p:cNvSpPr/>
          <p:nvPr/>
        </p:nvSpPr>
        <p:spPr>
          <a:xfrm>
            <a:off x="1114560" y="4648320"/>
            <a:ext cx="74581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71360" y="4800600"/>
            <a:ext cx="3086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44600" y="333360"/>
            <a:ext cx="94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La terapia “aggressiva” con statine nell’anziano è fattibile (quando indicata) anche perché a tuttora vi è una sostanziale evidenza sull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magine 1" descr="Diapositiva27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30240" y="36360"/>
            <a:ext cx="5473800" cy="274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5575320" y="0"/>
            <a:ext cx="47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919680" y="3645000"/>
            <a:ext cx="6408720" cy="310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30240" y="-27000"/>
            <a:ext cx="45673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6086" t="26447" r="14347" b="5920"/>
          <a:stretch/>
        </p:blipFill>
        <p:spPr>
          <a:xfrm>
            <a:off x="103320" y="404640"/>
            <a:ext cx="100105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0240" y="44280"/>
            <a:ext cx="6572160" cy="248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0240" y="3479760"/>
            <a:ext cx="6181560" cy="333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6222960" y="2535120"/>
            <a:ext cx="40291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15640"/>
            <a:ext cx="907560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00"/>
                </a:solidFill>
                <a:latin typeface="Times New Roman"/>
              </a:rPr>
              <a:t>Le patologie cardiovascolari sono responsabili di un elevato numero di decessi a livello globale, in crescita entro il 203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120600" y="1484280"/>
            <a:ext cx="4905360" cy="3124080"/>
            <a:chOff x="120600" y="1484280"/>
            <a:chExt cx="4905360" cy="3124080"/>
          </a:xfrm>
        </p:grpSpPr>
        <p:grpSp>
          <p:nvGrpSpPr>
            <p:cNvPr id="55" name="Group 10"/>
            <p:cNvGrpSpPr/>
            <p:nvPr/>
          </p:nvGrpSpPr>
          <p:grpSpPr>
            <a:xfrm>
              <a:off x="120600" y="1484280"/>
              <a:ext cx="4905360" cy="3124080"/>
              <a:chOff x="120600" y="1484280"/>
              <a:chExt cx="4905360" cy="3124080"/>
            </a:xfrm>
          </p:grpSpPr>
          <p:pic>
            <p:nvPicPr>
              <p:cNvPr id="56" name="Picture 4" descr="Marinedrugs 14 00060 g002b 1024"/>
              <p:cNvPicPr/>
              <p:nvPr/>
            </p:nvPicPr>
            <p:blipFill>
              <a:blip r:embed="rId1"/>
              <a:stretch/>
            </p:blipFill>
            <p:spPr>
              <a:xfrm>
                <a:off x="120600" y="2108520"/>
                <a:ext cx="4159440" cy="249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Rectangle 12"/>
              <p:cNvSpPr/>
              <p:nvPr/>
            </p:nvSpPr>
            <p:spPr>
              <a:xfrm>
                <a:off x="245880" y="1484280"/>
                <a:ext cx="47800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Calibri"/>
                  </a:rPr>
                  <a:t>Cardiovascular diseases account for 17.5 million deaths, cancers (8.2 million), respiratory diseases (4 million) and diabetes (1.5 million)</a:t>
                </a:r>
                <a:endParaRPr b="1" lang="en-US" sz="12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Right Brace 5"/>
            <p:cNvSpPr/>
            <p:nvPr/>
          </p:nvSpPr>
          <p:spPr>
            <a:xfrm>
              <a:off x="2874960" y="2120760"/>
              <a:ext cx="1133280" cy="2035080"/>
            </a:xfrm>
            <a:custGeom>
              <a:avLst/>
              <a:gdLst>
                <a:gd name="textAreaLeft" fmla="*/ 0 w 1133280"/>
                <a:gd name="textAreaRight" fmla="*/ 409320 w 1133280"/>
                <a:gd name="textAreaTop" fmla="*/ 24480 h 2035080"/>
                <a:gd name="textAreaBottom" fmla="*/ 2010600 h 203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20"/>
                    <a:pt x="10800" y="839"/>
                  </a:cubicBezTo>
                  <a:lnTo>
                    <a:pt x="10800" y="9961"/>
                  </a:lnTo>
                  <a:cubicBezTo>
                    <a:pt x="10800" y="10381"/>
                    <a:pt x="16200" y="10800"/>
                    <a:pt x="21600" y="10800"/>
                  </a:cubicBezTo>
                  <a:cubicBezTo>
                    <a:pt x="16200" y="10800"/>
                    <a:pt x="10800" y="11220"/>
                    <a:pt x="10800" y="11639"/>
                  </a:cubicBezTo>
                  <a:lnTo>
                    <a:pt x="10800" y="20761"/>
                  </a:lnTo>
                  <a:cubicBezTo>
                    <a:pt x="10800" y="2118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327640" y="1627200"/>
            <a:ext cx="4781520" cy="268452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2"/>
          <p:cNvSpPr/>
          <p:nvPr/>
        </p:nvSpPr>
        <p:spPr>
          <a:xfrm>
            <a:off x="514440" y="4653000"/>
            <a:ext cx="3495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In Italia: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236.719,decessi totali (nel 2014)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imputabili a patologie CV, di cui 14.518 riguardavano soggetti in età lavorativa,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irca 252.000 decessi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(nel 2020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5024520" y="4514760"/>
            <a:ext cx="50878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434960" y="44280"/>
            <a:ext cx="7524720" cy="130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0240" y="1405080"/>
            <a:ext cx="5545080" cy="327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5575320" y="3595680"/>
            <a:ext cx="4753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26" descr=""/>
          <p:cNvPicPr/>
          <p:nvPr/>
        </p:nvPicPr>
        <p:blipFill>
          <a:blip r:embed="rId1"/>
          <a:stretch/>
        </p:blipFill>
        <p:spPr>
          <a:xfrm>
            <a:off x="90360" y="115920"/>
            <a:ext cx="6915240" cy="626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27" descr=""/>
          <p:cNvPicPr/>
          <p:nvPr/>
        </p:nvPicPr>
        <p:blipFill>
          <a:blip r:embed="rId2"/>
          <a:stretch/>
        </p:blipFill>
        <p:spPr>
          <a:xfrm>
            <a:off x="4981680" y="549360"/>
            <a:ext cx="5060880" cy="408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5" name="Picture 1028" descr=""/>
          <p:cNvPicPr/>
          <p:nvPr/>
        </p:nvPicPr>
        <p:blipFill>
          <a:blip r:embed="rId3"/>
          <a:stretch/>
        </p:blipFill>
        <p:spPr>
          <a:xfrm>
            <a:off x="201600" y="1125360"/>
            <a:ext cx="5910120" cy="547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4600" y="1484280"/>
            <a:ext cx="9926640" cy="3960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771480" y="231840"/>
            <a:ext cx="898992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NE POST-CAB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71480" y="231840"/>
            <a:ext cx="898992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NE POST-CAB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98600" y="1413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La probabilita’ di occlusione di un bypass venoso Ao-coronarico dopo 10 anni risulta del 40% ; arterioso 15%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471680" y="2727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La probabilita’ di ripetere una CABG nei 20 anni successivi si osserva nel 20% dei pazienti trattati; una PTCA nel 7% dei trattati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71680" y="4167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L’efficacia delle statine post-CABG riguarda sia la pervieta’ dei graft, sia l’incidenza di eventi post-operatori (morte cardiaca, stroke, IMA ed angina instabile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66960" y="616572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Arial"/>
              </a:rPr>
              <a:t>N Engl J Med 1997; 336: 153-162 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-1440" y="115920"/>
            <a:ext cx="6153120" cy="283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6224760" y="115920"/>
            <a:ext cx="4032000" cy="5946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390600" y="342900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ogressione della malattia sul graft venoso 29% vs 39%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0600" y="1268280"/>
            <a:ext cx="9432720" cy="4105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771480" y="228600"/>
            <a:ext cx="898992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NE POST-CAB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71480" y="228600"/>
            <a:ext cx="898992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NE POST-CABG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30240" y="831960"/>
            <a:ext cx="741708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0240" y="19080"/>
            <a:ext cx="6284880" cy="233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240" y="3213000"/>
            <a:ext cx="4425840" cy="360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486320" y="2349360"/>
            <a:ext cx="5842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79320" y="1197000"/>
            <a:ext cx="3919320" cy="4319280"/>
            <a:chOff x="679320" y="1197000"/>
            <a:chExt cx="3919320" cy="4319280"/>
          </a:xfrm>
        </p:grpSpPr>
        <p:sp>
          <p:nvSpPr>
            <p:cNvPr id="144" name="Puzzle3"/>
            <p:cNvSpPr/>
            <p:nvPr/>
          </p:nvSpPr>
          <p:spPr>
            <a:xfrm>
              <a:off x="2588040" y="1197000"/>
              <a:ext cx="1540440" cy="2295360"/>
            </a:xfrm>
            <a:custGeom>
              <a:avLst/>
              <a:gdLst>
                <a:gd name="textAreaLeft" fmla="*/ 161640 w 1540440"/>
                <a:gd name="textAreaRight" fmla="*/ 1366200 w 1540440"/>
                <a:gd name="textAreaTop" fmla="*/ 820080 h 2295360"/>
                <a:gd name="textAreaBottom" fmla="*/ 2149920 h 22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5" name="Puzzle2"/>
            <p:cNvSpPr/>
            <p:nvPr/>
          </p:nvSpPr>
          <p:spPr>
            <a:xfrm>
              <a:off x="2139840" y="2869200"/>
              <a:ext cx="2458800" cy="2090520"/>
            </a:xfrm>
            <a:custGeom>
              <a:avLst/>
              <a:gdLst>
                <a:gd name="textAreaLeft" fmla="*/ 613800 w 2458800"/>
                <a:gd name="textAreaRight" fmla="*/ 1842120 w 2458800"/>
                <a:gd name="textAreaTop" fmla="*/ 651600 h 2090520"/>
                <a:gd name="textAreaBottom" fmla="*/ 1978560 h 20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6" name="Puzzle4"/>
            <p:cNvSpPr/>
            <p:nvPr/>
          </p:nvSpPr>
          <p:spPr>
            <a:xfrm>
              <a:off x="1188360" y="2843280"/>
              <a:ext cx="1482480" cy="2673000"/>
            </a:xfrm>
            <a:custGeom>
              <a:avLst/>
              <a:gdLst>
                <a:gd name="textAreaLeft" fmla="*/ 142200 w 1482480"/>
                <a:gd name="textAreaRight" fmla="*/ 1387080 w 1482480"/>
                <a:gd name="textAreaTop" fmla="*/ 700200 h 2673000"/>
                <a:gd name="textAreaBottom" fmla="*/ 1977120 h 26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7" name="Puzzle1"/>
            <p:cNvSpPr/>
            <p:nvPr/>
          </p:nvSpPr>
          <p:spPr>
            <a:xfrm>
              <a:off x="679320" y="1891440"/>
              <a:ext cx="2489760" cy="1593360"/>
            </a:xfrm>
            <a:custGeom>
              <a:avLst/>
              <a:gdLst>
                <a:gd name="textAreaLeft" fmla="*/ 701280 w 2489760"/>
                <a:gd name="textAreaRight" fmla="*/ 1859040 w 2489760"/>
                <a:gd name="textAreaTop" fmla="*/ 189360 h 1593360"/>
                <a:gd name="textAreaBottom" fmla="*/ 1441800 h 15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48" name="Text Box 7"/>
          <p:cNvSpPr/>
          <p:nvPr/>
        </p:nvSpPr>
        <p:spPr>
          <a:xfrm>
            <a:off x="4897440" y="2349360"/>
            <a:ext cx="459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SIDERAZIONI FINALI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NELLA TERAPIA C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TATINE  N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AZIENTE CON C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Aderenza alla terapia dopo 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ttangolo 2"/>
          <p:cNvSpPr/>
          <p:nvPr/>
        </p:nvSpPr>
        <p:spPr>
          <a:xfrm>
            <a:off x="730080" y="1666800"/>
            <a:ext cx="9042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attori associati a mancata aderenza alle prescrizioni terapeutiche negli studi osservazionali*: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47680" y="3102120"/>
            <a:ext cx="10032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ettangolo 30"/>
          <p:cNvGrpSpPr/>
          <p:nvPr/>
        </p:nvGrpSpPr>
        <p:grpSpPr>
          <a:xfrm>
            <a:off x="237960" y="231840"/>
            <a:ext cx="9807840" cy="6437160"/>
            <a:chOff x="237960" y="231840"/>
            <a:chExt cx="9807840" cy="6437160"/>
          </a:xfrm>
        </p:grpSpPr>
        <p:pic>
          <p:nvPicPr>
            <p:cNvPr id="63" name="Rettangolo 30" descr=""/>
            <p:cNvPicPr/>
            <p:nvPr/>
          </p:nvPicPr>
          <p:blipFill>
            <a:blip r:embed="rId1"/>
            <a:stretch/>
          </p:blipFill>
          <p:spPr>
            <a:xfrm>
              <a:off x="237960" y="231840"/>
              <a:ext cx="9807840" cy="64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6360" y="281160"/>
              <a:ext cx="9674280" cy="62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65" name="Titolo 1" descr=""/>
          <p:cNvPicPr/>
          <p:nvPr/>
        </p:nvPicPr>
        <p:blipFill>
          <a:blip r:embed="rId2"/>
          <a:stretch/>
        </p:blipFill>
        <p:spPr>
          <a:xfrm>
            <a:off x="549360" y="-60480"/>
            <a:ext cx="9271080" cy="1157400"/>
          </a:xfrm>
          <a:prstGeom prst="rect">
            <a:avLst/>
          </a:prstGeom>
          <a:ln w="0">
            <a:noFill/>
          </a:ln>
        </p:spPr>
      </p:pic>
      <p:sp>
        <p:nvSpPr>
          <p:cNvPr id="66" name="Segnaposto piè di pagina 4"/>
          <p:cNvSpPr/>
          <p:nvPr/>
        </p:nvSpPr>
        <p:spPr>
          <a:xfrm>
            <a:off x="3586320" y="6576840"/>
            <a:ext cx="30272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TT Collaboration. Lancet  201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Immagine 2" descr=""/>
          <p:cNvPicPr/>
          <p:nvPr/>
        </p:nvPicPr>
        <p:blipFill>
          <a:blip r:embed="rId3"/>
          <a:srcRect l="1569" t="1217" r="2366" b="1260"/>
          <a:stretch/>
        </p:blipFill>
        <p:spPr>
          <a:xfrm>
            <a:off x="1444680" y="816120"/>
            <a:ext cx="7513560" cy="5688000"/>
          </a:xfrm>
          <a:prstGeom prst="rect">
            <a:avLst/>
          </a:prstGeom>
          <a:ln w="0">
            <a:noFill/>
          </a:ln>
        </p:spPr>
      </p:pic>
      <p:grpSp>
        <p:nvGrpSpPr>
          <p:cNvPr id="68" name="Rettangolo 8"/>
          <p:cNvGrpSpPr/>
          <p:nvPr/>
        </p:nvGrpSpPr>
        <p:grpSpPr>
          <a:xfrm>
            <a:off x="6145200" y="762120"/>
            <a:ext cx="1828800" cy="371520"/>
            <a:chOff x="6145200" y="762120"/>
            <a:chExt cx="1828800" cy="371520"/>
          </a:xfrm>
        </p:grpSpPr>
        <p:pic>
          <p:nvPicPr>
            <p:cNvPr id="69" name="Rettangolo 8" descr=""/>
            <p:cNvPicPr/>
            <p:nvPr/>
          </p:nvPicPr>
          <p:blipFill>
            <a:blip r:embed="rId4"/>
            <a:stretch/>
          </p:blipFill>
          <p:spPr>
            <a:xfrm>
              <a:off x="6145200" y="762120"/>
              <a:ext cx="1828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207120" y="797040"/>
              <a:ext cx="1709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" name="Rettangolo 9"/>
          <p:cNvGrpSpPr/>
          <p:nvPr/>
        </p:nvGrpSpPr>
        <p:grpSpPr>
          <a:xfrm>
            <a:off x="6748560" y="4998960"/>
            <a:ext cx="511200" cy="841320"/>
            <a:chOff x="6748560" y="4998960"/>
            <a:chExt cx="511200" cy="841320"/>
          </a:xfrm>
        </p:grpSpPr>
        <p:pic>
          <p:nvPicPr>
            <p:cNvPr id="72" name="Rettangolo 9" descr=""/>
            <p:cNvPicPr/>
            <p:nvPr/>
          </p:nvPicPr>
          <p:blipFill>
            <a:blip r:embed="rId5"/>
            <a:stretch/>
          </p:blipFill>
          <p:spPr>
            <a:xfrm>
              <a:off x="6748560" y="4998960"/>
              <a:ext cx="511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810480" y="5037120"/>
              <a:ext cx="392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74" name="Freccia in giù 6" descr=""/>
          <p:cNvPicPr/>
          <p:nvPr/>
        </p:nvPicPr>
        <p:blipFill>
          <a:blip r:embed="rId6"/>
          <a:stretch/>
        </p:blipFill>
        <p:spPr>
          <a:xfrm>
            <a:off x="6224760" y="1938240"/>
            <a:ext cx="2760480" cy="7102440"/>
          </a:xfrm>
          <a:prstGeom prst="rect">
            <a:avLst/>
          </a:prstGeom>
          <a:ln w="0">
            <a:noFill/>
          </a:ln>
        </p:spPr>
      </p:pic>
      <p:pic>
        <p:nvPicPr>
          <p:cNvPr id="75" name="Freccia in giù 6" descr=""/>
          <p:cNvPicPr/>
          <p:nvPr/>
        </p:nvPicPr>
        <p:blipFill>
          <a:blip r:embed="rId7"/>
          <a:stretch/>
        </p:blipFill>
        <p:spPr>
          <a:xfrm>
            <a:off x="1420920" y="1968480"/>
            <a:ext cx="2766960" cy="7102440"/>
          </a:xfrm>
          <a:prstGeom prst="rect">
            <a:avLst/>
          </a:prstGeom>
          <a:ln w="0">
            <a:noFill/>
          </a:ln>
        </p:spPr>
      </p:pic>
      <p:sp>
        <p:nvSpPr>
          <p:cNvPr id="76" name="Freccia bidirezionale orizzontale 12"/>
          <p:cNvSpPr/>
          <p:nvPr/>
        </p:nvSpPr>
        <p:spPr>
          <a:xfrm>
            <a:off x="3586320" y="2462040"/>
            <a:ext cx="3236760" cy="134784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Metanalisi di 26 studi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Diapositiva44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magine 1" descr="Diapositiva45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63680" y="115920"/>
            <a:ext cx="9144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ff"/>
                </a:solidFill>
                <a:latin typeface="Tahoma"/>
              </a:rPr>
              <a:t>Confronti Italia, Piemonte e ASLCN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Grafico 6" descr=""/>
          <p:cNvPicPr/>
          <p:nvPr/>
        </p:nvPicPr>
        <p:blipFill>
          <a:blip r:embed="rId1"/>
          <a:stretch/>
        </p:blipFill>
        <p:spPr>
          <a:xfrm>
            <a:off x="4540320" y="3502080"/>
            <a:ext cx="5643360" cy="3274920"/>
          </a:xfrm>
          <a:prstGeom prst="rect">
            <a:avLst/>
          </a:prstGeom>
          <a:ln w="0">
            <a:noFill/>
          </a:ln>
        </p:spPr>
      </p:pic>
      <p:pic>
        <p:nvPicPr>
          <p:cNvPr id="159" name="Grafico 7" descr=""/>
          <p:cNvPicPr/>
          <p:nvPr/>
        </p:nvPicPr>
        <p:blipFill>
          <a:blip r:embed="rId2"/>
          <a:stretch/>
        </p:blipFill>
        <p:spPr>
          <a:xfrm>
            <a:off x="60480" y="1508040"/>
            <a:ext cx="51544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144360"/>
            <a:ext cx="7921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ff00ff"/>
                </a:solidFill>
                <a:latin typeface="Tahoma"/>
              </a:rPr>
              <a:t>Il consumo degli ipolipemizzanti nelle varie ASL piemontesi</a:t>
            </a:r>
            <a:endParaRPr b="1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4" name="Grafico 8" descr=""/>
          <p:cNvPicPr/>
          <p:nvPr/>
        </p:nvPicPr>
        <p:blipFill>
          <a:blip r:embed="rId1"/>
          <a:stretch/>
        </p:blipFill>
        <p:spPr>
          <a:xfrm>
            <a:off x="704880" y="1870200"/>
            <a:ext cx="923112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3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499104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8" name="Gruppo 6"/>
          <p:cNvGrpSpPr/>
          <p:nvPr/>
        </p:nvGrpSpPr>
        <p:grpSpPr>
          <a:xfrm>
            <a:off x="1039680" y="1413000"/>
            <a:ext cx="8353440" cy="5184720"/>
            <a:chOff x="1039680" y="1413000"/>
            <a:chExt cx="8353440" cy="5184720"/>
          </a:xfrm>
        </p:grpSpPr>
        <p:pic>
          <p:nvPicPr>
            <p:cNvPr id="169" name="Grafico 7" descr=""/>
            <p:cNvPicPr/>
            <p:nvPr/>
          </p:nvPicPr>
          <p:blipFill>
            <a:blip r:embed="rId1"/>
            <a:stretch/>
          </p:blipFill>
          <p:spPr>
            <a:xfrm>
              <a:off x="1039680" y="1413000"/>
              <a:ext cx="835344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Connettore 1 2"/>
            <p:cNvSpPr/>
            <p:nvPr/>
          </p:nvSpPr>
          <p:spPr>
            <a:xfrm flipV="1">
              <a:off x="5646240" y="1776600"/>
              <a:ext cx="0" cy="373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Connettore 1 7"/>
            <p:cNvSpPr/>
            <p:nvPr/>
          </p:nvSpPr>
          <p:spPr>
            <a:xfrm flipV="1">
              <a:off x="9098280" y="1776600"/>
              <a:ext cx="0" cy="373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2" name="Text Box 2"/>
          <p:cNvSpPr/>
          <p:nvPr/>
        </p:nvSpPr>
        <p:spPr>
          <a:xfrm>
            <a:off x="1974960" y="258840"/>
            <a:ext cx="6588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</a:tabLst>
            </a:pPr>
            <a:r>
              <a:rPr b="1" lang="it-IT" sz="4000" spc="-1" strike="noStrike">
                <a:solidFill>
                  <a:srgbClr val="ff00ff"/>
                </a:solidFill>
                <a:latin typeface="Tahoma"/>
              </a:rPr>
              <a:t>RISULTATI – Persistenz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0" y="2216160"/>
            <a:ext cx="10287000" cy="1530360"/>
          </a:xfrm>
          <a:prstGeom prst="rect">
            <a:avLst/>
          </a:prstGeom>
          <a:noFill/>
          <a:ln w="0">
            <a:noFill/>
          </a:ln>
          <a:effectLst>
            <a:outerShdw dist="20364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ja-JP" sz="4700" spc="-1" strike="noStrike">
                <a:solidFill>
                  <a:srgbClr val="ffff00"/>
                </a:solidFill>
                <a:latin typeface="Arial"/>
                <a:ea typeface="MS PGothic"/>
              </a:rPr>
              <a:t>“</a:t>
            </a:r>
            <a:r>
              <a:rPr b="1" lang="it-IT" sz="4700" spc="-1" strike="noStrike">
                <a:solidFill>
                  <a:srgbClr val="ffff00"/>
                </a:solidFill>
                <a:latin typeface="Arial"/>
                <a:ea typeface="MS PGothic"/>
              </a:rPr>
              <a:t>I farmaci non funzionano in coloro che non li assumono</a:t>
            </a:r>
            <a:r>
              <a:rPr b="1" lang="ja-JP" sz="4700" spc="-1" strike="noStrike">
                <a:solidFill>
                  <a:srgbClr val="ffff00"/>
                </a:solidFill>
                <a:latin typeface="Arial"/>
                <a:ea typeface="MS PGothic"/>
              </a:rPr>
              <a:t>”</a:t>
            </a:r>
            <a:endParaRPr b="1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78720" y="4535640"/>
            <a:ext cx="412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it-IT" sz="3400" spc="-1" strike="noStrike">
                <a:solidFill>
                  <a:srgbClr val="ffff00"/>
                </a:solidFill>
                <a:latin typeface="Arial"/>
                <a:ea typeface="MS PGothic"/>
              </a:rPr>
              <a:t>C. Everett Koop, MD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03320" y="765000"/>
            <a:ext cx="10044000" cy="425772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2"/>
          <p:cNvSpPr/>
          <p:nvPr/>
        </p:nvSpPr>
        <p:spPr>
          <a:xfrm>
            <a:off x="1584360" y="6093000"/>
            <a:ext cx="72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uropean Heart Journal doi:10.1093/eurheartj/ehw272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mbedded Image"/>
          <p:cNvPicPr/>
          <p:nvPr/>
        </p:nvPicPr>
        <p:blipFill>
          <a:blip r:embed="rId1"/>
          <a:stretch/>
        </p:blipFill>
        <p:spPr>
          <a:xfrm>
            <a:off x="6151680" y="260280"/>
            <a:ext cx="4105080" cy="627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79280" y="587520"/>
            <a:ext cx="5827680" cy="1257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1271160" y="31543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ery high risk pati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mbedded Image"/>
          <p:cNvPicPr/>
          <p:nvPr/>
        </p:nvPicPr>
        <p:blipFill>
          <a:blip r:embed="rId1"/>
          <a:stretch/>
        </p:blipFill>
        <p:spPr>
          <a:xfrm>
            <a:off x="2409840" y="2436840"/>
            <a:ext cx="5397480" cy="437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858960" y="133200"/>
            <a:ext cx="8499240" cy="183204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3"/>
          <p:cNvSpPr/>
          <p:nvPr/>
        </p:nvSpPr>
        <p:spPr>
          <a:xfrm>
            <a:off x="671400" y="2070000"/>
            <a:ext cx="98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commendations for treatment goals for low-density lipoprotein-choleste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mbedded Image"/>
          <p:cNvPicPr/>
          <p:nvPr/>
        </p:nvPicPr>
        <p:blipFill>
          <a:blip r:embed="rId1"/>
          <a:stretch/>
        </p:blipFill>
        <p:spPr>
          <a:xfrm>
            <a:off x="5324400" y="1901880"/>
            <a:ext cx="4932360" cy="496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58960" y="133200"/>
            <a:ext cx="8332560" cy="1797120"/>
          </a:xfrm>
          <a:prstGeom prst="rect">
            <a:avLst/>
          </a:prstGeom>
          <a:ln w="0">
            <a:noFill/>
          </a:ln>
        </p:spPr>
      </p:pic>
      <p:sp>
        <p:nvSpPr>
          <p:cNvPr id="87" name="Rettangolo 3"/>
          <p:cNvSpPr/>
          <p:nvPr/>
        </p:nvSpPr>
        <p:spPr>
          <a:xfrm>
            <a:off x="-93600" y="3129120"/>
            <a:ext cx="502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commendations for the pharmacological treatment of hypercholesterolae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58960" y="133200"/>
            <a:ext cx="8789760" cy="1895760"/>
          </a:xfrm>
          <a:prstGeom prst="rect">
            <a:avLst/>
          </a:prstGeom>
          <a:ln w="0">
            <a:noFill/>
          </a:ln>
        </p:spPr>
      </p:pic>
      <p:sp>
        <p:nvSpPr>
          <p:cNvPr id="89" name="Rettangolo 2"/>
          <p:cNvSpPr/>
          <p:nvPr/>
        </p:nvSpPr>
        <p:spPr>
          <a:xfrm>
            <a:off x="1366920" y="2482920"/>
            <a:ext cx="85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commendations for the treatment of dyslipidaemia in diabe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9600" y="3122640"/>
            <a:ext cx="101664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7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mbedded Image"/>
          <p:cNvPicPr/>
          <p:nvPr/>
        </p:nvPicPr>
        <p:blipFill>
          <a:blip r:embed="rId1"/>
          <a:stretch/>
        </p:blipFill>
        <p:spPr>
          <a:xfrm>
            <a:off x="30240" y="2997360"/>
            <a:ext cx="10142640" cy="29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858960" y="133200"/>
            <a:ext cx="8550000" cy="1843200"/>
          </a:xfrm>
          <a:prstGeom prst="rect">
            <a:avLst/>
          </a:prstGeom>
          <a:ln w="0">
            <a:noFill/>
          </a:ln>
        </p:spPr>
      </p:pic>
      <p:sp>
        <p:nvSpPr>
          <p:cNvPr id="93" name="Rettangolo 3"/>
          <p:cNvSpPr/>
          <p:nvPr/>
        </p:nvSpPr>
        <p:spPr>
          <a:xfrm>
            <a:off x="344520" y="216072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commendations for lipid-lowering therapy in patients with acute coronary syndrome and patients undergoing percutaneous coronary intervent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13:31:08Z</dcterms:created>
  <dc:creator>.</dc:creator>
  <dc:description/>
  <dc:language>en-US</dc:language>
  <cp:lastModifiedBy>Mauro Feola</cp:lastModifiedBy>
  <cp:lastPrinted>1999-01-31T13:56:03Z</cp:lastPrinted>
  <dcterms:modified xsi:type="dcterms:W3CDTF">2018-03-23T08:16:25Z</dcterms:modified>
  <cp:revision>814</cp:revision>
  <dc:subject/>
  <dc:title>Nessun titolo diapositiva</dc:title>
</cp:coreProperties>
</file>